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50C-BB40-4432-87FA-EB261474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913-BB58-4FC0-9284-90744882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5D5-EB91-4A1D-AA3F-AE8D68A5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231-CEAF-4F1F-BEE4-FA58A86F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6C417-8DE6-4632-85B1-323CC06B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8EF79-DAB7-4B4B-B895-36F3C4BC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FA837-ADFA-4E9D-88B6-3BEC172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02809-4F9C-403F-B84B-7360ED4D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273D4-4D26-4720-833D-7A1354E2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693B8-D13A-4668-9365-F8A1548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7172F-C081-4BBF-9359-54D873DA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C1B-2CC3-42E4-8A2C-D31320CC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DC99B-C371-4F81-BD03-12080C50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A8991-FDC7-4AE5-8B8E-8CD0E0A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52E7D-A7B8-4FAB-B1A6-B8853678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A52F2-CE3C-4C23-8018-760E3407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71EBE-72D3-410B-B21E-FD0735A6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586-A561-4091-8D4F-36F70891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854-5961-4CD0-8043-689E3ECE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C7A-9FE4-45F1-8E42-7EB3A4CE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816-4577-41A8-B7CB-6C608250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A6D-42CA-4D00-B205-F45DFBF5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EE4-B3DA-47FF-874C-D18A3015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D17-013A-41F6-9714-5A117A38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341A-7A8A-4BF6-A41C-E554452FA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17F4-7DB5-48EB-B986-4818536BD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05120" y="1676520"/>
            <a:ext cx="5410080" cy="161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91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Voluntariatul şi relaţii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interpersona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-proiect educaţional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2971800"/>
            <a:ext cx="7124760" cy="27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aliza nevoilor de învăţare ale elevil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rofesor psihopedagog Taisia T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82360"/>
            <a:ext cx="822960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rafic K-W-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pletati coloanele de mai jos 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2286000"/>
          <a:ext cx="7467480" cy="4454640"/>
        </p:xfrm>
        <a:graphic>
          <a:graphicData uri="http://schemas.openxmlformats.org/drawingml/2006/table">
            <a:tbl>
              <a:tblPr/>
              <a:tblGrid>
                <a:gridCol w="2394000"/>
                <a:gridCol w="2536560"/>
                <a:gridCol w="2536920"/>
              </a:tblGrid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stiu despre voluntari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as vrea sa stiu despre voluntari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am invatat in legatura cu acest subi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Intrebarea esenţială a proiectului nostru?</a:t>
            </a:r>
            <a:br>
              <a:rPr sz="2800"/>
            </a:br>
            <a:r>
              <a:rPr b="1" i="1" lang="ro-RO" sz="4000" spc="-1" strike="noStrike">
                <a:solidFill>
                  <a:srgbClr val="ffffff"/>
                </a:solidFill>
                <a:latin typeface="Tahoma"/>
              </a:rPr>
              <a:t>Cum pot să mă fac util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3317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e este important să află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ffffff"/>
                </a:solidFill>
                <a:latin typeface="Tahoma"/>
              </a:rPr>
              <a:t>Cine su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ffffff"/>
                </a:solidFill>
                <a:latin typeface="Tahoma"/>
              </a:rPr>
              <a:t>Pe cine pot să ajut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ffffff"/>
                </a:solidFill>
                <a:latin typeface="Tahoma"/>
              </a:rPr>
              <a:t>Cum pot să ajut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ffffff"/>
                </a:solidFill>
                <a:latin typeface="Tahoma"/>
              </a:rPr>
              <a:t>Care sunt problemele mediului social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2362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ffff"/>
                </a:solidFill>
                <a:latin typeface="Tahoma"/>
              </a:rPr>
              <a:t>Ce înseamnă voluntaria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4588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ffffff"/>
                </a:solidFill>
                <a:latin typeface="Tahoma"/>
              </a:rPr>
              <a:t>Care sunt modalităţile de comunic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4588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28195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Tahoma"/>
              </a:rPr>
              <a:t>Cum pot să devin o persoană asertiv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89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2057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ahoma"/>
              </a:rPr>
              <a:t>La ce-mi foloseşte empati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597040"/>
            <a:ext cx="8229600" cy="34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16761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Tahoma"/>
              </a:rPr>
              <a:t>Care sunt paşii pe care pot să-i urmez pentru a-i ajuta pe ceilalţi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36720"/>
            <a:ext cx="8229600" cy="32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…………………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3505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e parcursul activităţilor noastre vom descoperi răspunsurile la aceste întrebări şi ne vom dezvolta o serie de abilităţ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04-08T09:00:1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